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90A-EB12-4E1E-BF30-2D88D0B6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5A3-8440-43BF-A443-84357CC6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B36-B6CA-4D6D-92AE-81CBB371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051-4109-49BE-AF98-D1A0EB8C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416-21F2-4272-B2F2-5F27E633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B6E-6079-4656-A0C5-0A11C79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6F7-62CD-42A3-8502-200C514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35D-0049-457E-BA98-20B201F7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CF1-2F65-4696-8189-BC344EA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047-5F6C-41B1-B62C-10CFEC5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E51-3C89-49EE-8772-C47DCAC3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570-90A0-4FBE-8E7D-B269038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C81-74E1-48CA-BF82-CD4B259E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3970hxweEnbIfO_th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0"/>
            <a:ext cx="5105520" cy="9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ركوا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جميع عبيد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واقفين في بيت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إرفعوا أيديكم إلى القد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اركوا الرب، باركوا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ليباركك الرب من صهي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نع السموات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11:42Z</dcterms:modified>
  <cp:revision>3</cp:revision>
  <dc:subject/>
  <dc:title>PowerPoint Presentation</dc:title>
</cp:coreProperties>
</file>